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EB3-D56B-4109-A295-AFC60140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CDF-81C6-4972-BE92-7E88E34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BE6-5B7B-43F5-B23B-8352E658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651-A404-4994-B9DF-A9BCC5EC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44D-36F9-4357-99D0-C2A6EE9C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38C-AB4D-4937-ADCD-AB579E2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DD7-5521-455C-BFA2-DB21B640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20A-EB5B-4F6E-AF21-8BA788D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DDE-B0C1-414C-A00D-3D3B1CB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B9A-144F-4029-A61C-3D5FAAA6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254-DFA3-42A1-981C-2F4FA82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002-AA01-468E-B849-37B4E88E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24ED-3398-43DD-913E-BE06DE59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ie Lessa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0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498680"/>
            <a:ext cx="65534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Portra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- Twin Lens Re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37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wic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052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- Cross Proces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3790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5438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10:00Z</dcterms:created>
  <dc:creator>bal_smlessard</dc:creator>
  <dc:description/>
  <dc:language>en-US</dc:language>
  <cp:lastModifiedBy>C</cp:lastModifiedBy>
  <dcterms:modified xsi:type="dcterms:W3CDTF">2009-05-22T21:48:38Z</dcterms:modified>
  <cp:revision>2</cp:revision>
  <dc:subject/>
  <dc:title>Susie Lessard Portfolio </dc:title>
</cp:coreProperties>
</file>